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B47B-BA4F-44F0-8FBC-B2CD19755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DDAA-EEA9-4BE1-8CB4-21864F30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29F-7902-4468-BCD8-91B3F5478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4B3F-4550-44C8-B85E-A0EE5FF2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17C8-0E9F-4BDA-8327-B0A4ADA9D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1858-A4C2-431A-BC38-599044096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B44EB-068F-4DD4-BAB5-D4AE5866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ADA7-FFC6-456B-B54F-24C0DC6CC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D74DF-B8F6-4E99-ABEC-338E7395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DEA1-9235-42E8-809E-25AD01CD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7AF9A-DD39-49CB-B3E9-6E83A2B2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B68E-6785-493F-9A8E-CFDB1CDA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4D67-A534-4DEA-9826-72032F70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16B7B-6256-48E9-B5A5-1D975403C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AAE1-7979-4433-9F77-685E3903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20BBF-9032-47F3-8342-28203E47A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C690-9502-41D0-B0D8-63B375870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7CBE-4428-4ED6-80DE-ED360D72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3243-87F9-40B5-86D0-74DA6151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C1D-EBA9-468A-85F9-29AE110F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8241-BCF9-41BB-9590-00A24B5C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849-C031-450D-A671-38D9A978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F6C-39EA-4CBB-AF1B-48A103CE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7041-B656-4031-9873-6404C99B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5E39-DD1A-4EE0-9FE7-815859F0DA3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524D-C3C2-4390-8803-0DAAE7EFF98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urvey Based Lead Generation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TS Qualifies Leads Via Demand Surve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lify to top prospect with a  time frame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Time &amp; Date with executive with proper level and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Follow-up E-mail confirmation letter to insure attendance and understanding of the call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inder calls to boost number of successfu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% recovery Rate on “No Show”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offers a Complete Proces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TS provides all services for this lead generation system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spect List Gener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urcing of executive cont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rketing Letter Desig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Power point to set up Sales c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ointment confirmation and remind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st appointment recove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MTS Performance based Fee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Time F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itial Call List Development                 $5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ey Development                            $5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nthly Fe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ject Manager                                   $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st Development                                  $5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ey Fee                                            $4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ee Per accepted Sales Appointment  $1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8T14:59:24Z</dcterms:created>
  <dc:creator>Jay Jablonski</dc:creator>
  <dc:description/>
  <dc:language>en-US</dc:language>
  <cp:lastModifiedBy>Jay Jablonski</cp:lastModifiedBy>
  <dcterms:modified xsi:type="dcterms:W3CDTF">2011-09-26T22:14:16Z</dcterms:modified>
  <cp:revision>9</cp:revision>
  <dc:subject/>
  <dc:title>IMTS Research</dc:title>
</cp:coreProperties>
</file>